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E25-597B-47FF-8D08-505846AB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D1A-28EE-471A-8554-64921BC0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186-59A3-4038-B641-9D72D3FB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872-B95E-43E7-A88E-688DFAFB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52C-289A-454A-994A-229D041E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A1B-15F1-4D06-B0E6-88C88D04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89D-1F9D-4A35-B4B3-460BE3F4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CD0-F66F-477B-845E-C1B79791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E94-364B-404D-B91E-4E8B55E0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C264-585A-424B-97A3-359BB8B0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D66-411B-4A80-860B-9D995093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AB2-F765-4EB3-B1C6-F3D2DAB7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6974-6C12-4853-BB13-3C361443E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th Century British Poetry M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es over 280 po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ir poems reflect the many concerns and techniques used during the century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tish poetry movements: The Movement, The British Poetry Revival, and The Martian Po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ovement consisted of a group of poets that created works in an anti-romantic and rational tone. The term "The Movement" was created by J.D. Scott in 19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ritish Poetry Revival, occurring from the 1960s to the 1970s, was a counter to The Movement where poets took a more conservative approach to po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ian poetry took place during the 1970s and the 1980s. It was a small movement that tried to describe things in a different way with a great amount of ima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8:57:12Z</dcterms:created>
  <dc:creator>William  Yen</dc:creator>
  <dc:description/>
  <dc:language>en-US</dc:language>
  <cp:lastModifiedBy>William  Yen</cp:lastModifiedBy>
  <dcterms:modified xsi:type="dcterms:W3CDTF">2009-12-06T19:04:07Z</dcterms:modified>
  <cp:revision>1</cp:revision>
  <dc:subject/>
  <dc:title>20th Century British Poetry Movements</dc:title>
</cp:coreProperties>
</file>